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0411-E15F-4397-8A5C-9AFEFCA8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85F3-B1E4-4278-9005-F5BE9E6AC2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542-938A-4334-B2E7-E8EF1038F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 for Ju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D4AF-9DFC-4BF2-B41D-F2910B3951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8A1B-78E1-4C82-AFCE-47B689730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A72-36DF-4D8D-8D51-371455093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D414-88D4-4C08-B167-95CB31AB74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385F-0739-44EB-B9D1-3ECD242714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 numbers are very easy. I am going to show some gestures to help you remember the Japanese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DEC-1EA3-42F8-A402-254E1D34F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ー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5F7A-54BD-4A73-95CD-4447C27DC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218-C461-4B9B-877F-26DE38E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893-85AF-49FA-A1A4-41CCA38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977-3607-4FFA-A5B0-1354A71B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0BD-1787-4758-8BAE-22F07C60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506-DB46-496A-A379-57E68150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546-BACF-4A44-8172-E5B901B5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FC2-F59B-4F17-BF89-11F83F2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3D5-CE12-4ED1-AC71-4825C3D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4DA-869D-4446-A275-6D186DD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F62-2C5A-4180-BEC5-729E816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35B-50D8-416B-9195-47835A8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5B1-FB44-45D9-B771-A1CE1D7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B384-16B5-48D9-8255-903B8DCB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ea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langu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816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44348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角丸四角形吹き出し 3"/>
          <p:cNvSpPr/>
          <p:nvPr/>
        </p:nvSpPr>
        <p:spPr>
          <a:xfrm>
            <a:off x="5162400" y="1519200"/>
            <a:ext cx="2664000" cy="1368360"/>
          </a:xfrm>
          <a:prstGeom prst="wedgeRoundRectCallout">
            <a:avLst>
              <a:gd name="adj1" fmla="val 62662"/>
              <a:gd name="adj2" fmla="val 824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w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w an egg HAT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3600" y="61920"/>
            <a:ext cx="281952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8</a:t>
            </a:r>
            <a:r>
              <a:rPr b="1" lang="en-GB" sz="32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ha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835280" y="1704960"/>
            <a:ext cx="5722920" cy="4603680"/>
          </a:xfrm>
          <a:prstGeom prst="rect">
            <a:avLst/>
          </a:prstGeom>
          <a:ln w="0">
            <a:noFill/>
          </a:ln>
        </p:spPr>
      </p:pic>
      <p:sp>
        <p:nvSpPr>
          <p:cNvPr id="79" name="角丸四角形吹き出し 3"/>
          <p:cNvSpPr/>
          <p:nvPr/>
        </p:nvSpPr>
        <p:spPr>
          <a:xfrm>
            <a:off x="5718240" y="765000"/>
            <a:ext cx="2663640" cy="1368720"/>
          </a:xfrm>
          <a:prstGeom prst="wedgeRoundRectCallout">
            <a:avLst>
              <a:gd name="adj1" fmla="val 62662"/>
              <a:gd name="adj2" fmla="val 824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d there but there was a long QUEU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8440" y="44280"/>
            <a:ext cx="304812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9</a:t>
            </a:r>
            <a:br>
              <a:rPr sz="15000"/>
            </a:b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Osaka"/>
              </a:rPr>
              <a:t>kyuu(k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386160" y="1628640"/>
            <a:ext cx="4568760" cy="4808520"/>
          </a:xfrm>
          <a:prstGeom prst="rect">
            <a:avLst/>
          </a:prstGeom>
          <a:ln w="0">
            <a:noFill/>
          </a:ln>
        </p:spPr>
      </p:pic>
      <p:sp>
        <p:nvSpPr>
          <p:cNvPr id="82" name="角丸四角形吹き出し 3"/>
          <p:cNvSpPr/>
          <p:nvPr/>
        </p:nvSpPr>
        <p:spPr>
          <a:xfrm>
            <a:off x="5580000" y="777960"/>
            <a:ext cx="2664000" cy="1584360"/>
          </a:xfrm>
          <a:prstGeom prst="wedgeRoundRectCallout">
            <a:avLst>
              <a:gd name="adj1" fmla="val 62662"/>
              <a:gd name="adj2" fmla="val 824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I could watch the JUdo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8000" y="189000"/>
            <a:ext cx="32767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10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Osaka"/>
              </a:rPr>
              <a:t>ju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ay the numbers in re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ay the numbers in re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more than 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t’s practise !</a:t>
            </a: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62626"/>
                </a:solidFill>
                <a:latin typeface="Arial Rounded MT Bold"/>
              </a:rPr>
              <a:t>Say the number before it disappea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062240" y="393372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643720" y="114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428920" y="107172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 Rounded MT Bold"/>
                <a:ea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000680" y="1428840"/>
            <a:ext cx="50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Arial Rounded MT Bold"/>
                <a:ea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14960" y="400068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28920" y="25718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c000"/>
                </a:solidFill>
                <a:latin typeface="Arial Rounded MT Bold"/>
                <a:ea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714680" y="38577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70c0"/>
                </a:solidFill>
                <a:latin typeface="Arial Rounded MT Bold"/>
                <a:ea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786120" y="32148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357880" y="257184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d6992"/>
                </a:solidFill>
                <a:latin typeface="Arial Rounded MT Bold"/>
                <a:ea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86080" y="47862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58000" y="28576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e4649"/>
                </a:solidFill>
                <a:latin typeface="Arial Rounded MT Bold"/>
                <a:ea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tretch/>
        </p:blipFill>
        <p:spPr>
          <a:xfrm>
            <a:off x="7434360" y="4971960"/>
            <a:ext cx="132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: 10 and 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 10 and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: 10 and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557360"/>
            <a:ext cx="4043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: 2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the numbers in Japane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10076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角丸四角形吹き出し 1"/>
          <p:cNvSpPr/>
          <p:nvPr/>
        </p:nvSpPr>
        <p:spPr>
          <a:xfrm>
            <a:off x="6084720" y="1700280"/>
            <a:ext cx="2664000" cy="1368360"/>
          </a:xfrm>
          <a:prstGeom prst="wedgeRoundRectCallout">
            <a:avLst>
              <a:gd name="adj1" fmla="val -70009"/>
              <a:gd name="adj2" fmla="val 14615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an ITCH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8360" y="168120"/>
            <a:ext cx="2286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1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079880" y="1484280"/>
            <a:ext cx="3832200" cy="5183280"/>
          </a:xfrm>
          <a:prstGeom prst="rect">
            <a:avLst/>
          </a:prstGeom>
          <a:ln w="0">
            <a:noFill/>
          </a:ln>
        </p:spPr>
      </p:pic>
      <p:sp>
        <p:nvSpPr>
          <p:cNvPr id="57" name="角丸四角形吹き出し 3"/>
          <p:cNvSpPr/>
          <p:nvPr/>
        </p:nvSpPr>
        <p:spPr>
          <a:xfrm>
            <a:off x="1389240" y="2909880"/>
            <a:ext cx="2663640" cy="1368360"/>
          </a:xfrm>
          <a:prstGeom prst="wedgeRoundRectCallout">
            <a:avLst>
              <a:gd name="adj1" fmla="val 73574"/>
              <a:gd name="adj2" fmla="val -89064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96920"/>
            <a:ext cx="2819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2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368960" cy="4751640"/>
          </a:xfrm>
          <a:prstGeom prst="rect">
            <a:avLst/>
          </a:prstGeom>
          <a:ln w="0">
            <a:noFill/>
          </a:ln>
        </p:spPr>
      </p:pic>
      <p:sp>
        <p:nvSpPr>
          <p:cNvPr id="60" name="角丸四角形吹き出し 3"/>
          <p:cNvSpPr/>
          <p:nvPr/>
        </p:nvSpPr>
        <p:spPr>
          <a:xfrm>
            <a:off x="6099120" y="1268280"/>
            <a:ext cx="2665440" cy="1368720"/>
          </a:xfrm>
          <a:prstGeom prst="wedgeRoundRectCallout">
            <a:avLst>
              <a:gd name="adj1" fmla="val -68472"/>
              <a:gd name="adj2" fmla="val 66490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 SUNny 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352440"/>
            <a:ext cx="26672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3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3786120" cy="5112000"/>
          </a:xfrm>
          <a:prstGeom prst="rect">
            <a:avLst/>
          </a:prstGeom>
          <a:ln w="0">
            <a:noFill/>
          </a:ln>
        </p:spPr>
      </p:pic>
      <p:sp>
        <p:nvSpPr>
          <p:cNvPr id="63" name="角丸四角形吹き出し 3"/>
          <p:cNvSpPr/>
          <p:nvPr/>
        </p:nvSpPr>
        <p:spPr>
          <a:xfrm>
            <a:off x="6443640" y="1700280"/>
            <a:ext cx="2305080" cy="1368360"/>
          </a:xfrm>
          <a:prstGeom prst="wedgeRoundRectCallout">
            <a:avLst>
              <a:gd name="adj1" fmla="val -62703"/>
              <a:gd name="adj2" fmla="val 35944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’m YAW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304920"/>
            <a:ext cx="305928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4</a:t>
            </a:r>
            <a:br>
              <a:rPr sz="15000"/>
            </a:b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yon 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Osaka"/>
              </a:rPr>
              <a:t>(s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295520" cy="5256360"/>
          </a:xfrm>
          <a:prstGeom prst="rect">
            <a:avLst/>
          </a:prstGeom>
          <a:ln w="0">
            <a:noFill/>
          </a:ln>
        </p:spPr>
      </p:pic>
      <p:sp>
        <p:nvSpPr>
          <p:cNvPr id="66" name="角丸四角形吹き出し 3"/>
          <p:cNvSpPr/>
          <p:nvPr/>
        </p:nvSpPr>
        <p:spPr>
          <a:xfrm>
            <a:off x="5580000" y="3025800"/>
            <a:ext cx="2664000" cy="1368360"/>
          </a:xfrm>
          <a:prstGeom prst="wedgeRoundRectCallout">
            <a:avLst>
              <a:gd name="adj1" fmla="val 62662"/>
              <a:gd name="adj2" fmla="val 824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let’s GO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9280" y="189000"/>
            <a:ext cx="26672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5</a:t>
            </a:r>
            <a:r>
              <a:rPr b="1" lang="en-GB" sz="32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987640" y="514440"/>
            <a:ext cx="490068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角丸四角形吹き出し 3"/>
          <p:cNvSpPr/>
          <p:nvPr/>
        </p:nvSpPr>
        <p:spPr>
          <a:xfrm>
            <a:off x="5224320" y="4508640"/>
            <a:ext cx="2664000" cy="1368360"/>
          </a:xfrm>
          <a:prstGeom prst="wedgeRoundRectCallout">
            <a:avLst>
              <a:gd name="adj1" fmla="val 80189"/>
              <a:gd name="adj2" fmla="val 1412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check if I LOCKed the door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95280" y="514440"/>
            <a:ext cx="28954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6</a:t>
            </a:r>
            <a:r>
              <a:rPr b="1" lang="en-GB" sz="36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452840" cy="5732640"/>
          </a:xfrm>
          <a:prstGeom prst="rect">
            <a:avLst/>
          </a:prstGeom>
          <a:ln w="0">
            <a:noFill/>
          </a:ln>
        </p:spPr>
      </p:pic>
      <p:sp>
        <p:nvSpPr>
          <p:cNvPr id="72" name="角丸四角形吹き出し 3"/>
          <p:cNvSpPr/>
          <p:nvPr/>
        </p:nvSpPr>
        <p:spPr>
          <a:xfrm>
            <a:off x="5040360" y="1557360"/>
            <a:ext cx="3216240" cy="1366920"/>
          </a:xfrm>
          <a:prstGeom prst="wedgeRoundRectCallout">
            <a:avLst>
              <a:gd name="adj1" fmla="val 62662"/>
              <a:gd name="adj2" fmla="val 82449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NA is waiting for me with tea and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90520" y="114480"/>
            <a:ext cx="1905120" cy="38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b050"/>
                </a:solidFill>
                <a:latin typeface="Comic Sans MS"/>
                <a:ea typeface="Osaka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shich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16:53Z</dcterms:created>
  <dc:creator>h.tanaka</dc:creator>
  <dc:description/>
  <dc:language>en-US</dc:language>
  <cp:lastModifiedBy>Hiroko Tanaka</cp:lastModifiedBy>
  <cp:lastPrinted>2013-09-24T15:02:09Z</cp:lastPrinted>
  <dcterms:modified xsi:type="dcterms:W3CDTF">2013-09-24T15:02:12Z</dcterms:modified>
  <cp:revision>35</cp:revision>
  <dc:subject/>
  <dc:title>Let’s learn about Japan!</dc:title>
</cp:coreProperties>
</file>